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8D98-B6CF-4184-A47A-45D2507C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7379-F117-4FA9-A56C-BF70908F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01F5-CE35-4A1A-A9AE-98B36D04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0856-A518-4B6B-8598-74488721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7D1D-D1B7-4729-A485-3A392124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3BEF-FACE-4B34-AA9F-AE8C0D4A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54C0-2C83-4F69-8EC4-4479BAF0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C620-0647-4DDC-AC55-541B3068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51DB-4240-4770-9128-BC582CCA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6783-95A1-417B-A3AD-E40827B6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92EB-283D-4C2B-8BA3-4FA73D6E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668E-6C32-4127-877C-39F109A2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7E3E-7924-46A0-B439-61A16C184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Content Placeholder 3"/>
          <p:cNvGrpSpPr/>
          <p:nvPr/>
        </p:nvGrpSpPr>
        <p:grpSpPr>
          <a:xfrm>
            <a:off x="609480" y="1676520"/>
            <a:ext cx="7953480" cy="4385520"/>
            <a:chOff x="609480" y="1676520"/>
            <a:chExt cx="7953480" cy="4385520"/>
          </a:xfrm>
        </p:grpSpPr>
        <p:sp>
          <p:nvSpPr>
            <p:cNvPr id="42" name="AutoShape 4"/>
            <p:cNvSpPr/>
            <p:nvPr/>
          </p:nvSpPr>
          <p:spPr>
            <a:xfrm>
              <a:off x="609480" y="1676520"/>
              <a:ext cx="7953480" cy="43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Line 5"/>
            <p:cNvSpPr/>
            <p:nvPr/>
          </p:nvSpPr>
          <p:spPr>
            <a:xfrm>
              <a:off x="4432680" y="3229560"/>
              <a:ext cx="0" cy="1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Line 6"/>
            <p:cNvSpPr/>
            <p:nvPr/>
          </p:nvSpPr>
          <p:spPr>
            <a:xfrm>
              <a:off x="6116400" y="2794320"/>
              <a:ext cx="842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Line 7"/>
            <p:cNvSpPr/>
            <p:nvPr/>
          </p:nvSpPr>
          <p:spPr>
            <a:xfrm flipH="1">
              <a:off x="1321560" y="3374640"/>
              <a:ext cx="310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Line 8"/>
            <p:cNvSpPr/>
            <p:nvPr/>
          </p:nvSpPr>
          <p:spPr>
            <a:xfrm>
              <a:off x="4403520" y="3374640"/>
              <a:ext cx="347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Line 9"/>
            <p:cNvSpPr/>
            <p:nvPr/>
          </p:nvSpPr>
          <p:spPr>
            <a:xfrm flipH="1">
              <a:off x="7854480" y="3374640"/>
              <a:ext cx="30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3823920" y="1702440"/>
              <a:ext cx="1263960" cy="341280"/>
            </a:xfrm>
            <a:prstGeom prst="rect">
              <a:avLst/>
            </a:prstGeom>
            <a:solidFill>
              <a:srgbClr val="ffcc99"/>
            </a:solidFill>
            <a:ln w="57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roject Director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Line 11"/>
            <p:cNvSpPr/>
            <p:nvPr/>
          </p:nvSpPr>
          <p:spPr>
            <a:xfrm>
              <a:off x="4432680" y="2043720"/>
              <a:ext cx="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Line 14"/>
            <p:cNvSpPr/>
            <p:nvPr/>
          </p:nvSpPr>
          <p:spPr>
            <a:xfrm>
              <a:off x="4432680" y="258912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ctangle 15"/>
            <p:cNvSpPr/>
            <p:nvPr/>
          </p:nvSpPr>
          <p:spPr>
            <a:xfrm>
              <a:off x="3896640" y="2248920"/>
              <a:ext cx="1147680" cy="34020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roject Manager Site A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16"/>
            <p:cNvSpPr/>
            <p:nvPr/>
          </p:nvSpPr>
          <p:spPr>
            <a:xfrm>
              <a:off x="776880" y="4160160"/>
              <a:ext cx="764640" cy="341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ivil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spection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17"/>
            <p:cNvSpPr/>
            <p:nvPr/>
          </p:nvSpPr>
          <p:spPr>
            <a:xfrm>
              <a:off x="5274360" y="2589120"/>
              <a:ext cx="961200" cy="4179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dministrative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Manager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18"/>
            <p:cNvSpPr/>
            <p:nvPr/>
          </p:nvSpPr>
          <p:spPr>
            <a:xfrm>
              <a:off x="3867480" y="2881080"/>
              <a:ext cx="1148760" cy="393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nstruction Manager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Line 19"/>
            <p:cNvSpPr/>
            <p:nvPr/>
          </p:nvSpPr>
          <p:spPr>
            <a:xfrm>
              <a:off x="4432680" y="2794320"/>
              <a:ext cx="8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6576480" y="2589120"/>
              <a:ext cx="923400" cy="4179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urchasing/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Expediting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" name="Group 21"/>
            <p:cNvGrpSpPr/>
            <p:nvPr/>
          </p:nvGrpSpPr>
          <p:grpSpPr>
            <a:xfrm>
              <a:off x="613800" y="3366000"/>
              <a:ext cx="4861800" cy="2696040"/>
              <a:chOff x="613800" y="3366000"/>
              <a:chExt cx="4861800" cy="2696040"/>
            </a:xfrm>
          </p:grpSpPr>
          <p:sp>
            <p:nvSpPr>
              <p:cNvPr id="58" name="Line 22"/>
              <p:cNvSpPr/>
              <p:nvPr/>
            </p:nvSpPr>
            <p:spPr>
              <a:xfrm flipH="1">
                <a:off x="4449960" y="3920400"/>
                <a:ext cx="13320" cy="198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9" name="Group 23"/>
              <p:cNvGrpSpPr/>
              <p:nvPr/>
            </p:nvGrpSpPr>
            <p:grpSpPr>
              <a:xfrm>
                <a:off x="2155680" y="3370680"/>
                <a:ext cx="1325160" cy="591840"/>
                <a:chOff x="2155680" y="3370680"/>
                <a:chExt cx="1325160" cy="591840"/>
              </a:xfrm>
            </p:grpSpPr>
            <p:sp>
              <p:nvSpPr>
                <p:cNvPr id="60" name="Line 24"/>
                <p:cNvSpPr/>
                <p:nvPr/>
              </p:nvSpPr>
              <p:spPr>
                <a:xfrm>
                  <a:off x="3480840" y="3370680"/>
                  <a:ext cx="0" cy="27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" name="Rectangle 25"/>
                <p:cNvSpPr/>
                <p:nvPr/>
              </p:nvSpPr>
              <p:spPr>
                <a:xfrm>
                  <a:off x="2155680" y="3582000"/>
                  <a:ext cx="766800" cy="3805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Scheduler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" name="Line 26"/>
              <p:cNvSpPr/>
              <p:nvPr/>
            </p:nvSpPr>
            <p:spPr>
              <a:xfrm>
                <a:off x="1334880" y="3366000"/>
                <a:ext cx="0" cy="20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Line 27"/>
              <p:cNvSpPr/>
              <p:nvPr/>
            </p:nvSpPr>
            <p:spPr>
              <a:xfrm>
                <a:off x="2523960" y="3369600"/>
                <a:ext cx="0" cy="20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Rectangle 28"/>
              <p:cNvSpPr/>
              <p:nvPr/>
            </p:nvSpPr>
            <p:spPr>
              <a:xfrm>
                <a:off x="3038760" y="3590640"/>
                <a:ext cx="841680" cy="4050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Safety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Manager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Line 29"/>
              <p:cNvSpPr/>
              <p:nvPr/>
            </p:nvSpPr>
            <p:spPr>
              <a:xfrm flipH="1">
                <a:off x="613800" y="3877560"/>
                <a:ext cx="38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Line 30"/>
              <p:cNvSpPr/>
              <p:nvPr/>
            </p:nvSpPr>
            <p:spPr>
              <a:xfrm>
                <a:off x="613800" y="3877560"/>
                <a:ext cx="0" cy="18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Line 31"/>
              <p:cNvSpPr/>
              <p:nvPr/>
            </p:nvSpPr>
            <p:spPr>
              <a:xfrm>
                <a:off x="613800" y="43552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8" name="Group 32"/>
              <p:cNvGrpSpPr/>
              <p:nvPr/>
            </p:nvGrpSpPr>
            <p:grpSpPr>
              <a:xfrm>
                <a:off x="613800" y="4629240"/>
                <a:ext cx="918000" cy="341280"/>
                <a:chOff x="613800" y="4629240"/>
                <a:chExt cx="918000" cy="341280"/>
              </a:xfrm>
            </p:grpSpPr>
            <p:sp>
              <p:nvSpPr>
                <p:cNvPr id="69" name="Rectangle 33"/>
                <p:cNvSpPr/>
                <p:nvPr/>
              </p:nvSpPr>
              <p:spPr>
                <a:xfrm>
                  <a:off x="766440" y="4629240"/>
                  <a:ext cx="765360" cy="34128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Mechanical 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Inspection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" name="Line 34"/>
                <p:cNvSpPr/>
                <p:nvPr/>
              </p:nvSpPr>
              <p:spPr>
                <a:xfrm>
                  <a:off x="613800" y="481104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1" name="Group 35"/>
              <p:cNvGrpSpPr/>
              <p:nvPr/>
            </p:nvGrpSpPr>
            <p:grpSpPr>
              <a:xfrm>
                <a:off x="613800" y="5106960"/>
                <a:ext cx="918000" cy="341280"/>
                <a:chOff x="613800" y="5106960"/>
                <a:chExt cx="918000" cy="341280"/>
              </a:xfrm>
            </p:grpSpPr>
            <p:sp>
              <p:nvSpPr>
                <p:cNvPr id="72" name="Rectangle 36"/>
                <p:cNvSpPr/>
                <p:nvPr/>
              </p:nvSpPr>
              <p:spPr>
                <a:xfrm>
                  <a:off x="766440" y="5106960"/>
                  <a:ext cx="765360" cy="34128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Weld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Inspection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" name="Line 37"/>
                <p:cNvSpPr/>
                <p:nvPr/>
              </p:nvSpPr>
              <p:spPr>
                <a:xfrm>
                  <a:off x="613800" y="524340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4" name="Rectangle 38"/>
              <p:cNvSpPr/>
              <p:nvPr/>
            </p:nvSpPr>
            <p:spPr>
              <a:xfrm>
                <a:off x="977760" y="3570840"/>
                <a:ext cx="841680" cy="4050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QA/QC Manager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Line 39"/>
              <p:cNvSpPr/>
              <p:nvPr/>
            </p:nvSpPr>
            <p:spPr>
              <a:xfrm>
                <a:off x="4475880" y="3374640"/>
                <a:ext cx="0" cy="20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Rectangle 40"/>
              <p:cNvSpPr/>
              <p:nvPr/>
            </p:nvSpPr>
            <p:spPr>
              <a:xfrm>
                <a:off x="3963240" y="3578760"/>
                <a:ext cx="1070640" cy="3970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Engineering Manager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7" name="Group 41"/>
              <p:cNvGrpSpPr/>
              <p:nvPr/>
            </p:nvGrpSpPr>
            <p:grpSpPr>
              <a:xfrm>
                <a:off x="623880" y="5593680"/>
                <a:ext cx="918000" cy="341280"/>
                <a:chOff x="623880" y="5593680"/>
                <a:chExt cx="918000" cy="341280"/>
              </a:xfrm>
            </p:grpSpPr>
            <p:sp>
              <p:nvSpPr>
                <p:cNvPr id="78" name="Rectangle 42"/>
                <p:cNvSpPr/>
                <p:nvPr/>
              </p:nvSpPr>
              <p:spPr>
                <a:xfrm>
                  <a:off x="776520" y="5593680"/>
                  <a:ext cx="765360" cy="34128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Electrical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Inspection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Line 43"/>
                <p:cNvSpPr/>
                <p:nvPr/>
              </p:nvSpPr>
              <p:spPr>
                <a:xfrm>
                  <a:off x="623880" y="573012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0" name="Group 44"/>
              <p:cNvGrpSpPr/>
              <p:nvPr/>
            </p:nvGrpSpPr>
            <p:grpSpPr>
              <a:xfrm>
                <a:off x="4469400" y="4139280"/>
                <a:ext cx="1006200" cy="1922760"/>
                <a:chOff x="4469400" y="4139280"/>
                <a:chExt cx="1006200" cy="1922760"/>
              </a:xfrm>
            </p:grpSpPr>
            <p:grpSp>
              <p:nvGrpSpPr>
                <p:cNvPr id="81" name="Group 45"/>
                <p:cNvGrpSpPr/>
                <p:nvPr/>
              </p:nvGrpSpPr>
              <p:grpSpPr>
                <a:xfrm>
                  <a:off x="4469400" y="4788000"/>
                  <a:ext cx="990360" cy="590400"/>
                  <a:chOff x="4469400" y="4788000"/>
                  <a:chExt cx="990360" cy="590400"/>
                </a:xfrm>
              </p:grpSpPr>
              <p:sp>
                <p:nvSpPr>
                  <p:cNvPr id="82" name="Rectangle 46"/>
                  <p:cNvSpPr/>
                  <p:nvPr/>
                </p:nvSpPr>
                <p:spPr>
                  <a:xfrm>
                    <a:off x="4615920" y="4788000"/>
                    <a:ext cx="843840" cy="245880"/>
                  </a:xfrm>
                  <a:prstGeom prst="rect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Electrical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3" name="Rectangle 47"/>
                  <p:cNvSpPr/>
                  <p:nvPr/>
                </p:nvSpPr>
                <p:spPr>
                  <a:xfrm>
                    <a:off x="4615920" y="5132520"/>
                    <a:ext cx="843840" cy="245880"/>
                  </a:xfrm>
                  <a:prstGeom prst="rect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I &amp; C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4" name="Line 48"/>
                  <p:cNvSpPr/>
                  <p:nvPr/>
                </p:nvSpPr>
                <p:spPr>
                  <a:xfrm>
                    <a:off x="4475520" y="5231160"/>
                    <a:ext cx="140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" name="Line 49"/>
                  <p:cNvSpPr/>
                  <p:nvPr/>
                </p:nvSpPr>
                <p:spPr>
                  <a:xfrm>
                    <a:off x="4469400" y="4906800"/>
                    <a:ext cx="140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6" name="Group 50"/>
                <p:cNvGrpSpPr/>
                <p:nvPr/>
              </p:nvGrpSpPr>
              <p:grpSpPr>
                <a:xfrm>
                  <a:off x="4475520" y="4438080"/>
                  <a:ext cx="990360" cy="247320"/>
                  <a:chOff x="4475520" y="4438080"/>
                  <a:chExt cx="990360" cy="247320"/>
                </a:xfrm>
              </p:grpSpPr>
              <p:sp>
                <p:nvSpPr>
                  <p:cNvPr id="87" name="Rectangle 51"/>
                  <p:cNvSpPr/>
                  <p:nvPr/>
                </p:nvSpPr>
                <p:spPr>
                  <a:xfrm>
                    <a:off x="4622400" y="4438080"/>
                    <a:ext cx="843480" cy="247320"/>
                  </a:xfrm>
                  <a:prstGeom prst="rect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Mechanical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8" name="Line 52"/>
                  <p:cNvSpPr/>
                  <p:nvPr/>
                </p:nvSpPr>
                <p:spPr>
                  <a:xfrm>
                    <a:off x="4475520" y="4614120"/>
                    <a:ext cx="140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9" name="Group 53"/>
                <p:cNvGrpSpPr/>
                <p:nvPr/>
              </p:nvGrpSpPr>
              <p:grpSpPr>
                <a:xfrm>
                  <a:off x="4491360" y="4139280"/>
                  <a:ext cx="984240" cy="230400"/>
                  <a:chOff x="4491360" y="4139280"/>
                  <a:chExt cx="984240" cy="230400"/>
                </a:xfrm>
              </p:grpSpPr>
              <p:sp>
                <p:nvSpPr>
                  <p:cNvPr id="90" name="Line 54"/>
                  <p:cNvSpPr/>
                  <p:nvPr/>
                </p:nvSpPr>
                <p:spPr>
                  <a:xfrm>
                    <a:off x="4491360" y="4298400"/>
                    <a:ext cx="140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1" name="Rectangle 55"/>
                  <p:cNvSpPr/>
                  <p:nvPr/>
                </p:nvSpPr>
                <p:spPr>
                  <a:xfrm>
                    <a:off x="4631760" y="4139280"/>
                    <a:ext cx="843840" cy="230400"/>
                  </a:xfrm>
                  <a:prstGeom prst="rect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Civil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2" name="Group 56"/>
                <p:cNvGrpSpPr/>
                <p:nvPr/>
              </p:nvGrpSpPr>
              <p:grpSpPr>
                <a:xfrm>
                  <a:off x="4469400" y="5471640"/>
                  <a:ext cx="990360" cy="590400"/>
                  <a:chOff x="4469400" y="5471640"/>
                  <a:chExt cx="990360" cy="590400"/>
                </a:xfrm>
              </p:grpSpPr>
              <p:sp>
                <p:nvSpPr>
                  <p:cNvPr id="93" name="Rectangle 57"/>
                  <p:cNvSpPr/>
                  <p:nvPr/>
                </p:nvSpPr>
                <p:spPr>
                  <a:xfrm>
                    <a:off x="4615920" y="5471640"/>
                    <a:ext cx="843840" cy="245880"/>
                  </a:xfrm>
                  <a:prstGeom prst="rect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DC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" name="Rectangle 58"/>
                  <p:cNvSpPr/>
                  <p:nvPr/>
                </p:nvSpPr>
                <p:spPr>
                  <a:xfrm>
                    <a:off x="4615920" y="5816160"/>
                    <a:ext cx="843840" cy="245880"/>
                  </a:xfrm>
                  <a:prstGeom prst="rect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Site Engineer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5" name="Line 59"/>
                  <p:cNvSpPr/>
                  <p:nvPr/>
                </p:nvSpPr>
                <p:spPr>
                  <a:xfrm>
                    <a:off x="4475520" y="5914800"/>
                    <a:ext cx="140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6" name="Line 60"/>
                  <p:cNvSpPr/>
                  <p:nvPr/>
                </p:nvSpPr>
                <p:spPr>
                  <a:xfrm>
                    <a:off x="4469400" y="5590440"/>
                    <a:ext cx="140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97" name="Group 61"/>
            <p:cNvGrpSpPr/>
            <p:nvPr/>
          </p:nvGrpSpPr>
          <p:grpSpPr>
            <a:xfrm>
              <a:off x="5661720" y="4543560"/>
              <a:ext cx="937800" cy="615240"/>
              <a:chOff x="5661720" y="4543560"/>
              <a:chExt cx="937800" cy="615240"/>
            </a:xfrm>
          </p:grpSpPr>
          <p:sp>
            <p:nvSpPr>
              <p:cNvPr id="98" name="Rectangle 62"/>
              <p:cNvSpPr/>
              <p:nvPr/>
            </p:nvSpPr>
            <p:spPr>
              <a:xfrm>
                <a:off x="5661720" y="4748760"/>
                <a:ext cx="937800" cy="4100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Electrical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Superintendent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Line 63"/>
              <p:cNvSpPr/>
              <p:nvPr/>
            </p:nvSpPr>
            <p:spPr>
              <a:xfrm flipV="1">
                <a:off x="6096960" y="4543560"/>
                <a:ext cx="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0" name="Group 64"/>
            <p:cNvGrpSpPr/>
            <p:nvPr/>
          </p:nvGrpSpPr>
          <p:grpSpPr>
            <a:xfrm>
              <a:off x="6696000" y="3366000"/>
              <a:ext cx="936720" cy="563400"/>
              <a:chOff x="6696000" y="3366000"/>
              <a:chExt cx="936720" cy="563400"/>
            </a:xfrm>
          </p:grpSpPr>
          <p:sp>
            <p:nvSpPr>
              <p:cNvPr id="101" name="Line 65"/>
              <p:cNvSpPr/>
              <p:nvPr/>
            </p:nvSpPr>
            <p:spPr>
              <a:xfrm>
                <a:off x="7179120" y="3366000"/>
                <a:ext cx="0" cy="20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Rectangle 66"/>
              <p:cNvSpPr/>
              <p:nvPr/>
            </p:nvSpPr>
            <p:spPr>
              <a:xfrm>
                <a:off x="6696000" y="3520080"/>
                <a:ext cx="936720" cy="4093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Start Up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Manager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3" name="Group 67"/>
            <p:cNvGrpSpPr/>
            <p:nvPr/>
          </p:nvGrpSpPr>
          <p:grpSpPr>
            <a:xfrm>
              <a:off x="5661720" y="4013280"/>
              <a:ext cx="936720" cy="593280"/>
              <a:chOff x="5661720" y="4013280"/>
              <a:chExt cx="936720" cy="593280"/>
            </a:xfrm>
          </p:grpSpPr>
          <p:sp>
            <p:nvSpPr>
              <p:cNvPr id="104" name="Line 68"/>
              <p:cNvSpPr/>
              <p:nvPr/>
            </p:nvSpPr>
            <p:spPr>
              <a:xfrm flipV="1">
                <a:off x="6107040" y="4013280"/>
                <a:ext cx="0" cy="20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Rectangle 69"/>
              <p:cNvSpPr/>
              <p:nvPr/>
            </p:nvSpPr>
            <p:spPr>
              <a:xfrm>
                <a:off x="5661720" y="4197600"/>
                <a:ext cx="936720" cy="4089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Mechanical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Superintendent 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Group 70"/>
            <p:cNvGrpSpPr/>
            <p:nvPr/>
          </p:nvGrpSpPr>
          <p:grpSpPr>
            <a:xfrm>
              <a:off x="5623920" y="3372840"/>
              <a:ext cx="2737440" cy="649440"/>
              <a:chOff x="5623920" y="3372840"/>
              <a:chExt cx="2737440" cy="649440"/>
            </a:xfrm>
          </p:grpSpPr>
          <p:sp>
            <p:nvSpPr>
              <p:cNvPr id="107" name="Line 71"/>
              <p:cNvSpPr/>
              <p:nvPr/>
            </p:nvSpPr>
            <p:spPr>
              <a:xfrm>
                <a:off x="6094080" y="3374640"/>
                <a:ext cx="0" cy="20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Rectangle 72"/>
              <p:cNvSpPr/>
              <p:nvPr/>
            </p:nvSpPr>
            <p:spPr>
              <a:xfrm>
                <a:off x="5623920" y="3519720"/>
                <a:ext cx="941400" cy="5025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Equipment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Erection 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Superintendent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09" name="Group 73"/>
              <p:cNvGrpSpPr/>
              <p:nvPr/>
            </p:nvGrpSpPr>
            <p:grpSpPr>
              <a:xfrm>
                <a:off x="7825680" y="3372840"/>
                <a:ext cx="535680" cy="563040"/>
                <a:chOff x="7825680" y="3372840"/>
                <a:chExt cx="535680" cy="563040"/>
              </a:xfrm>
            </p:grpSpPr>
            <p:sp>
              <p:nvSpPr>
                <p:cNvPr id="110" name="Line 74"/>
                <p:cNvSpPr/>
                <p:nvPr/>
              </p:nvSpPr>
              <p:spPr>
                <a:xfrm>
                  <a:off x="8120160" y="3372840"/>
                  <a:ext cx="0" cy="20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1" name="Rectangle 75"/>
                <p:cNvSpPr/>
                <p:nvPr/>
              </p:nvSpPr>
              <p:spPr>
                <a:xfrm>
                  <a:off x="7825680" y="3580920"/>
                  <a:ext cx="535680" cy="3549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Training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VG 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Content Placeholder 3"/>
          <p:cNvGrpSpPr/>
          <p:nvPr/>
        </p:nvGrpSpPr>
        <p:grpSpPr>
          <a:xfrm>
            <a:off x="609480" y="1676520"/>
            <a:ext cx="7953480" cy="4385520"/>
            <a:chOff x="609480" y="1676520"/>
            <a:chExt cx="7953480" cy="4385520"/>
          </a:xfrm>
        </p:grpSpPr>
        <p:sp>
          <p:nvSpPr>
            <p:cNvPr id="114" name="AutoShape 4"/>
            <p:cNvSpPr/>
            <p:nvPr/>
          </p:nvSpPr>
          <p:spPr>
            <a:xfrm>
              <a:off x="609480" y="1676520"/>
              <a:ext cx="7953480" cy="43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>
              <a:off x="4432680" y="3229560"/>
              <a:ext cx="0" cy="1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Line 6"/>
            <p:cNvSpPr/>
            <p:nvPr/>
          </p:nvSpPr>
          <p:spPr>
            <a:xfrm>
              <a:off x="6116400" y="2794320"/>
              <a:ext cx="842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 flipH="1">
              <a:off x="1321560" y="3374640"/>
              <a:ext cx="310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4403520" y="3374640"/>
              <a:ext cx="347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 flipH="1">
              <a:off x="7854480" y="3374640"/>
              <a:ext cx="30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3823920" y="1702440"/>
              <a:ext cx="1263960" cy="341280"/>
            </a:xfrm>
            <a:prstGeom prst="rect">
              <a:avLst/>
            </a:prstGeom>
            <a:solidFill>
              <a:srgbClr val="ffcc99"/>
            </a:solidFill>
            <a:ln w="57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roject Director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>
              <a:off x="4432680" y="2043720"/>
              <a:ext cx="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Line 14"/>
            <p:cNvSpPr/>
            <p:nvPr/>
          </p:nvSpPr>
          <p:spPr>
            <a:xfrm>
              <a:off x="4432680" y="258912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3896640" y="2248920"/>
              <a:ext cx="1147680" cy="34020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roject Manager Site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776880" y="4160160"/>
              <a:ext cx="764640" cy="341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ivil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Inspection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5274360" y="2589120"/>
              <a:ext cx="961200" cy="4179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dministrative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Manager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3867480" y="2881080"/>
              <a:ext cx="1148760" cy="393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nstruction Manager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4432680" y="2794320"/>
              <a:ext cx="8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6576480" y="2589120"/>
              <a:ext cx="923400" cy="4179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urchasing/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Expediting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9" name="Group 21"/>
            <p:cNvGrpSpPr/>
            <p:nvPr/>
          </p:nvGrpSpPr>
          <p:grpSpPr>
            <a:xfrm>
              <a:off x="613800" y="3366000"/>
              <a:ext cx="4861800" cy="2696040"/>
              <a:chOff x="613800" y="3366000"/>
              <a:chExt cx="4861800" cy="2696040"/>
            </a:xfrm>
          </p:grpSpPr>
          <p:sp>
            <p:nvSpPr>
              <p:cNvPr id="130" name="Line 22"/>
              <p:cNvSpPr/>
              <p:nvPr/>
            </p:nvSpPr>
            <p:spPr>
              <a:xfrm flipH="1">
                <a:off x="4449960" y="3920400"/>
                <a:ext cx="13320" cy="198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1" name="Group 23"/>
              <p:cNvGrpSpPr/>
              <p:nvPr/>
            </p:nvGrpSpPr>
            <p:grpSpPr>
              <a:xfrm>
                <a:off x="2155680" y="3370680"/>
                <a:ext cx="1325160" cy="591840"/>
                <a:chOff x="2155680" y="3370680"/>
                <a:chExt cx="1325160" cy="591840"/>
              </a:xfrm>
            </p:grpSpPr>
            <p:sp>
              <p:nvSpPr>
                <p:cNvPr id="132" name="Line 24"/>
                <p:cNvSpPr/>
                <p:nvPr/>
              </p:nvSpPr>
              <p:spPr>
                <a:xfrm>
                  <a:off x="3480840" y="3370680"/>
                  <a:ext cx="0" cy="27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Rectangle 25"/>
                <p:cNvSpPr/>
                <p:nvPr/>
              </p:nvSpPr>
              <p:spPr>
                <a:xfrm>
                  <a:off x="2155680" y="3582000"/>
                  <a:ext cx="766800" cy="3805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Scheduler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4" name="Line 26"/>
              <p:cNvSpPr/>
              <p:nvPr/>
            </p:nvSpPr>
            <p:spPr>
              <a:xfrm>
                <a:off x="1334880" y="3366000"/>
                <a:ext cx="0" cy="20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Line 27"/>
              <p:cNvSpPr/>
              <p:nvPr/>
            </p:nvSpPr>
            <p:spPr>
              <a:xfrm>
                <a:off x="2523960" y="3369600"/>
                <a:ext cx="0" cy="20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angle 28"/>
              <p:cNvSpPr/>
              <p:nvPr/>
            </p:nvSpPr>
            <p:spPr>
              <a:xfrm>
                <a:off x="3038760" y="3590640"/>
                <a:ext cx="841680" cy="4050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Safety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Manager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Line 29"/>
              <p:cNvSpPr/>
              <p:nvPr/>
            </p:nvSpPr>
            <p:spPr>
              <a:xfrm flipH="1">
                <a:off x="613800" y="3877560"/>
                <a:ext cx="38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Line 30"/>
              <p:cNvSpPr/>
              <p:nvPr/>
            </p:nvSpPr>
            <p:spPr>
              <a:xfrm>
                <a:off x="613800" y="3877560"/>
                <a:ext cx="0" cy="18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Line 31"/>
              <p:cNvSpPr/>
              <p:nvPr/>
            </p:nvSpPr>
            <p:spPr>
              <a:xfrm>
                <a:off x="613800" y="43552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40" name="Group 32"/>
              <p:cNvGrpSpPr/>
              <p:nvPr/>
            </p:nvGrpSpPr>
            <p:grpSpPr>
              <a:xfrm>
                <a:off x="613800" y="4629240"/>
                <a:ext cx="918000" cy="341280"/>
                <a:chOff x="613800" y="4629240"/>
                <a:chExt cx="918000" cy="341280"/>
              </a:xfrm>
            </p:grpSpPr>
            <p:sp>
              <p:nvSpPr>
                <p:cNvPr id="141" name="Rectangle 33"/>
                <p:cNvSpPr/>
                <p:nvPr/>
              </p:nvSpPr>
              <p:spPr>
                <a:xfrm>
                  <a:off x="766440" y="4629240"/>
                  <a:ext cx="765360" cy="34128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Mechanical 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Inspection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Line 34"/>
                <p:cNvSpPr/>
                <p:nvPr/>
              </p:nvSpPr>
              <p:spPr>
                <a:xfrm>
                  <a:off x="613800" y="481104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3" name="Group 35"/>
              <p:cNvGrpSpPr/>
              <p:nvPr/>
            </p:nvGrpSpPr>
            <p:grpSpPr>
              <a:xfrm>
                <a:off x="613800" y="5106960"/>
                <a:ext cx="918000" cy="341280"/>
                <a:chOff x="613800" y="5106960"/>
                <a:chExt cx="918000" cy="341280"/>
              </a:xfrm>
            </p:grpSpPr>
            <p:sp>
              <p:nvSpPr>
                <p:cNvPr id="144" name="Rectangle 36"/>
                <p:cNvSpPr/>
                <p:nvPr/>
              </p:nvSpPr>
              <p:spPr>
                <a:xfrm>
                  <a:off x="766440" y="5106960"/>
                  <a:ext cx="765360" cy="34128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Weld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Inspection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Line 37"/>
                <p:cNvSpPr/>
                <p:nvPr/>
              </p:nvSpPr>
              <p:spPr>
                <a:xfrm>
                  <a:off x="613800" y="524340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6" name="Rectangle 38"/>
              <p:cNvSpPr/>
              <p:nvPr/>
            </p:nvSpPr>
            <p:spPr>
              <a:xfrm>
                <a:off x="977760" y="3570840"/>
                <a:ext cx="841680" cy="4050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QA/QC Manager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Line 39"/>
              <p:cNvSpPr/>
              <p:nvPr/>
            </p:nvSpPr>
            <p:spPr>
              <a:xfrm>
                <a:off x="4475880" y="3374640"/>
                <a:ext cx="0" cy="20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Rectangle 40"/>
              <p:cNvSpPr/>
              <p:nvPr/>
            </p:nvSpPr>
            <p:spPr>
              <a:xfrm>
                <a:off x="3963240" y="3578760"/>
                <a:ext cx="1070640" cy="3970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Engineering Manager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49" name="Group 41"/>
              <p:cNvGrpSpPr/>
              <p:nvPr/>
            </p:nvGrpSpPr>
            <p:grpSpPr>
              <a:xfrm>
                <a:off x="623880" y="5593680"/>
                <a:ext cx="918000" cy="341280"/>
                <a:chOff x="623880" y="5593680"/>
                <a:chExt cx="918000" cy="341280"/>
              </a:xfrm>
            </p:grpSpPr>
            <p:sp>
              <p:nvSpPr>
                <p:cNvPr id="150" name="Rectangle 42"/>
                <p:cNvSpPr/>
                <p:nvPr/>
              </p:nvSpPr>
              <p:spPr>
                <a:xfrm>
                  <a:off x="776520" y="5593680"/>
                  <a:ext cx="765360" cy="34128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Electrical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Inspection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Line 43"/>
                <p:cNvSpPr/>
                <p:nvPr/>
              </p:nvSpPr>
              <p:spPr>
                <a:xfrm>
                  <a:off x="623880" y="573012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52" name="Group 44"/>
              <p:cNvGrpSpPr/>
              <p:nvPr/>
            </p:nvGrpSpPr>
            <p:grpSpPr>
              <a:xfrm>
                <a:off x="4469400" y="4139280"/>
                <a:ext cx="1006200" cy="1922760"/>
                <a:chOff x="4469400" y="4139280"/>
                <a:chExt cx="1006200" cy="1922760"/>
              </a:xfrm>
            </p:grpSpPr>
            <p:grpSp>
              <p:nvGrpSpPr>
                <p:cNvPr id="153" name="Group 45"/>
                <p:cNvGrpSpPr/>
                <p:nvPr/>
              </p:nvGrpSpPr>
              <p:grpSpPr>
                <a:xfrm>
                  <a:off x="4469400" y="4788000"/>
                  <a:ext cx="990360" cy="590400"/>
                  <a:chOff x="4469400" y="4788000"/>
                  <a:chExt cx="990360" cy="590400"/>
                </a:xfrm>
              </p:grpSpPr>
              <p:sp>
                <p:nvSpPr>
                  <p:cNvPr id="154" name="Rectangle 46"/>
                  <p:cNvSpPr/>
                  <p:nvPr/>
                </p:nvSpPr>
                <p:spPr>
                  <a:xfrm>
                    <a:off x="4615920" y="4788000"/>
                    <a:ext cx="843840" cy="245880"/>
                  </a:xfrm>
                  <a:prstGeom prst="rect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Electrical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5" name="Rectangle 47"/>
                  <p:cNvSpPr/>
                  <p:nvPr/>
                </p:nvSpPr>
                <p:spPr>
                  <a:xfrm>
                    <a:off x="4615920" y="5132520"/>
                    <a:ext cx="843840" cy="245880"/>
                  </a:xfrm>
                  <a:prstGeom prst="rect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I &amp; C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" name="Line 48"/>
                  <p:cNvSpPr/>
                  <p:nvPr/>
                </p:nvSpPr>
                <p:spPr>
                  <a:xfrm>
                    <a:off x="4475520" y="5231160"/>
                    <a:ext cx="140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7" name="Line 49"/>
                  <p:cNvSpPr/>
                  <p:nvPr/>
                </p:nvSpPr>
                <p:spPr>
                  <a:xfrm>
                    <a:off x="4469400" y="4906800"/>
                    <a:ext cx="140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58" name="Group 50"/>
                <p:cNvGrpSpPr/>
                <p:nvPr/>
              </p:nvGrpSpPr>
              <p:grpSpPr>
                <a:xfrm>
                  <a:off x="4475520" y="4438080"/>
                  <a:ext cx="990360" cy="247320"/>
                  <a:chOff x="4475520" y="4438080"/>
                  <a:chExt cx="990360" cy="247320"/>
                </a:xfrm>
              </p:grpSpPr>
              <p:sp>
                <p:nvSpPr>
                  <p:cNvPr id="159" name="Rectangle 51"/>
                  <p:cNvSpPr/>
                  <p:nvPr/>
                </p:nvSpPr>
                <p:spPr>
                  <a:xfrm>
                    <a:off x="4622400" y="4438080"/>
                    <a:ext cx="843480" cy="247320"/>
                  </a:xfrm>
                  <a:prstGeom prst="rect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Mechanical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" name="Line 52"/>
                  <p:cNvSpPr/>
                  <p:nvPr/>
                </p:nvSpPr>
                <p:spPr>
                  <a:xfrm>
                    <a:off x="4475520" y="4614120"/>
                    <a:ext cx="140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61" name="Group 53"/>
                <p:cNvGrpSpPr/>
                <p:nvPr/>
              </p:nvGrpSpPr>
              <p:grpSpPr>
                <a:xfrm>
                  <a:off x="4491360" y="4139280"/>
                  <a:ext cx="984240" cy="230400"/>
                  <a:chOff x="4491360" y="4139280"/>
                  <a:chExt cx="984240" cy="230400"/>
                </a:xfrm>
              </p:grpSpPr>
              <p:sp>
                <p:nvSpPr>
                  <p:cNvPr id="162" name="Line 54"/>
                  <p:cNvSpPr/>
                  <p:nvPr/>
                </p:nvSpPr>
                <p:spPr>
                  <a:xfrm>
                    <a:off x="4491360" y="4298400"/>
                    <a:ext cx="140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3" name="Rectangle 55"/>
                  <p:cNvSpPr/>
                  <p:nvPr/>
                </p:nvSpPr>
                <p:spPr>
                  <a:xfrm>
                    <a:off x="4631760" y="4139280"/>
                    <a:ext cx="843840" cy="230400"/>
                  </a:xfrm>
                  <a:prstGeom prst="rect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Civil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64" name="Group 56"/>
                <p:cNvGrpSpPr/>
                <p:nvPr/>
              </p:nvGrpSpPr>
              <p:grpSpPr>
                <a:xfrm>
                  <a:off x="4469400" y="5471640"/>
                  <a:ext cx="990360" cy="590400"/>
                  <a:chOff x="4469400" y="5471640"/>
                  <a:chExt cx="990360" cy="590400"/>
                </a:xfrm>
              </p:grpSpPr>
              <p:sp>
                <p:nvSpPr>
                  <p:cNvPr id="165" name="Rectangle 57"/>
                  <p:cNvSpPr/>
                  <p:nvPr/>
                </p:nvSpPr>
                <p:spPr>
                  <a:xfrm>
                    <a:off x="4615920" y="5471640"/>
                    <a:ext cx="843840" cy="245880"/>
                  </a:xfrm>
                  <a:prstGeom prst="rect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DC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6" name="Rectangle 58"/>
                  <p:cNvSpPr/>
                  <p:nvPr/>
                </p:nvSpPr>
                <p:spPr>
                  <a:xfrm>
                    <a:off x="4615920" y="5816160"/>
                    <a:ext cx="843840" cy="245880"/>
                  </a:xfrm>
                  <a:prstGeom prst="rect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Site Engineer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7" name="Line 59"/>
                  <p:cNvSpPr/>
                  <p:nvPr/>
                </p:nvSpPr>
                <p:spPr>
                  <a:xfrm>
                    <a:off x="4475520" y="5914800"/>
                    <a:ext cx="140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8" name="Line 60"/>
                  <p:cNvSpPr/>
                  <p:nvPr/>
                </p:nvSpPr>
                <p:spPr>
                  <a:xfrm>
                    <a:off x="4469400" y="5590440"/>
                    <a:ext cx="140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169" name="Group 61"/>
            <p:cNvGrpSpPr/>
            <p:nvPr/>
          </p:nvGrpSpPr>
          <p:grpSpPr>
            <a:xfrm>
              <a:off x="5661720" y="4543560"/>
              <a:ext cx="937800" cy="615240"/>
              <a:chOff x="5661720" y="4543560"/>
              <a:chExt cx="937800" cy="615240"/>
            </a:xfrm>
          </p:grpSpPr>
          <p:sp>
            <p:nvSpPr>
              <p:cNvPr id="170" name="Rectangle 62"/>
              <p:cNvSpPr/>
              <p:nvPr/>
            </p:nvSpPr>
            <p:spPr>
              <a:xfrm>
                <a:off x="5661720" y="4748760"/>
                <a:ext cx="937800" cy="4100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Electrical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Superintendent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Line 63"/>
              <p:cNvSpPr/>
              <p:nvPr/>
            </p:nvSpPr>
            <p:spPr>
              <a:xfrm flipV="1">
                <a:off x="6096960" y="4543560"/>
                <a:ext cx="0" cy="2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2" name="Group 64"/>
            <p:cNvGrpSpPr/>
            <p:nvPr/>
          </p:nvGrpSpPr>
          <p:grpSpPr>
            <a:xfrm>
              <a:off x="6696000" y="3366000"/>
              <a:ext cx="936720" cy="563400"/>
              <a:chOff x="6696000" y="3366000"/>
              <a:chExt cx="936720" cy="563400"/>
            </a:xfrm>
          </p:grpSpPr>
          <p:sp>
            <p:nvSpPr>
              <p:cNvPr id="173" name="Line 65"/>
              <p:cNvSpPr/>
              <p:nvPr/>
            </p:nvSpPr>
            <p:spPr>
              <a:xfrm>
                <a:off x="7179120" y="3366000"/>
                <a:ext cx="0" cy="20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Rectangle 66"/>
              <p:cNvSpPr/>
              <p:nvPr/>
            </p:nvSpPr>
            <p:spPr>
              <a:xfrm>
                <a:off x="6696000" y="3520080"/>
                <a:ext cx="936720" cy="4093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Start Up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Manager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5" name="Group 67"/>
            <p:cNvGrpSpPr/>
            <p:nvPr/>
          </p:nvGrpSpPr>
          <p:grpSpPr>
            <a:xfrm>
              <a:off x="5661720" y="4013280"/>
              <a:ext cx="936720" cy="593280"/>
              <a:chOff x="5661720" y="4013280"/>
              <a:chExt cx="936720" cy="593280"/>
            </a:xfrm>
          </p:grpSpPr>
          <p:sp>
            <p:nvSpPr>
              <p:cNvPr id="176" name="Line 68"/>
              <p:cNvSpPr/>
              <p:nvPr/>
            </p:nvSpPr>
            <p:spPr>
              <a:xfrm flipV="1">
                <a:off x="6107040" y="4013280"/>
                <a:ext cx="0" cy="20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Rectangle 69"/>
              <p:cNvSpPr/>
              <p:nvPr/>
            </p:nvSpPr>
            <p:spPr>
              <a:xfrm>
                <a:off x="5661720" y="4197600"/>
                <a:ext cx="936720" cy="4089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Mechanical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Superintendent 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8" name="Group 70"/>
            <p:cNvGrpSpPr/>
            <p:nvPr/>
          </p:nvGrpSpPr>
          <p:grpSpPr>
            <a:xfrm>
              <a:off x="5623920" y="3372840"/>
              <a:ext cx="2737440" cy="649440"/>
              <a:chOff x="5623920" y="3372840"/>
              <a:chExt cx="2737440" cy="649440"/>
            </a:xfrm>
          </p:grpSpPr>
          <p:sp>
            <p:nvSpPr>
              <p:cNvPr id="179" name="Line 71"/>
              <p:cNvSpPr/>
              <p:nvPr/>
            </p:nvSpPr>
            <p:spPr>
              <a:xfrm>
                <a:off x="6094080" y="3374640"/>
                <a:ext cx="0" cy="20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Rectangle 72"/>
              <p:cNvSpPr/>
              <p:nvPr/>
            </p:nvSpPr>
            <p:spPr>
              <a:xfrm>
                <a:off x="5623920" y="3519720"/>
                <a:ext cx="941400" cy="5025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Equipment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Erection 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Superintendent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81" name="Group 73"/>
              <p:cNvGrpSpPr/>
              <p:nvPr/>
            </p:nvGrpSpPr>
            <p:grpSpPr>
              <a:xfrm>
                <a:off x="7825680" y="3372840"/>
                <a:ext cx="535680" cy="563040"/>
                <a:chOff x="7825680" y="3372840"/>
                <a:chExt cx="535680" cy="563040"/>
              </a:xfrm>
            </p:grpSpPr>
            <p:sp>
              <p:nvSpPr>
                <p:cNvPr id="182" name="Line 74"/>
                <p:cNvSpPr/>
                <p:nvPr/>
              </p:nvSpPr>
              <p:spPr>
                <a:xfrm>
                  <a:off x="8120160" y="3372840"/>
                  <a:ext cx="0" cy="20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" name="Rectangle 75"/>
                <p:cNvSpPr/>
                <p:nvPr/>
              </p:nvSpPr>
              <p:spPr>
                <a:xfrm>
                  <a:off x="7825680" y="3580920"/>
                  <a:ext cx="535680" cy="3549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Training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VG-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20:41:15Z</dcterms:created>
  <dc:creator>Joaquin Mavares</dc:creator>
  <dc:description/>
  <dc:language>en-US</dc:language>
  <cp:lastModifiedBy>Joaquin Mavares</cp:lastModifiedBy>
  <dcterms:modified xsi:type="dcterms:W3CDTF">2010-02-26T22:38:30Z</dcterms:modified>
  <cp:revision>12</cp:revision>
  <dc:subject/>
  <dc:title>Slide 1</dc:title>
</cp:coreProperties>
</file>